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5C41-D8BC-417B-AE66-D5B69E30E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981E-8BEE-4706-BCCA-9C141BB3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AEA9-D12A-45FB-A93F-F1A1952D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D9AB-594A-4FE6-926A-3E8675C4D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EAA6-EC8D-4DE6-8541-E2E1AE47C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F64B-AF20-4E32-8922-9091C549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2BFF-55BF-47B8-BBA4-3070DE77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EFDB-EB5E-4EDA-B2DD-1B898FA4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A425-9C18-4332-8FB6-FDAE97A0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4CD7-9DA9-476F-9734-980CDA39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0264-72AB-4C0B-8519-1DBFEA3A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9821-2360-4837-AABB-5FCA0810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EB4E-F682-4D31-A267-0302E2FA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C907-F773-4899-A38D-D7A6E2D1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7D1B-FCF0-4882-8249-FD9B150E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0608-13E4-4DBD-9DD9-BD2EBC7C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5A12-77F1-48D3-B58E-CB1C61DEC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417D-8D6E-4A99-929A-59A40573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1DFF-338F-4C1E-B337-F6DFF1C2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61B4-6DC5-40E7-BACE-F06141BB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8961-7EAB-46ED-9F4A-F19E6806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CC31-7D36-466F-9923-4707F3AA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910F-BE3D-4FD5-BC94-F6D25B02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06B3-0536-4920-83D5-A21D8754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31B3-909A-44F4-BB95-1D0C450ED2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1319-E034-47E9-B58C-E7C13D11AC6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6.xml"/><Relationship Id="rId3" Type="http://schemas.openxmlformats.org/officeDocument/2006/relationships/slide" Target="slide28.xml"/><Relationship Id="rId4" Type="http://schemas.openxmlformats.org/officeDocument/2006/relationships/hyperlink" Target="file:///CTE+Intro+Standards.doc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p7%20All%20About%20Me%20-%20PWettstein%20-%20Very%20Good.ppt#CTE IT Introduction" TargetMode="External"/><Relationship Id="rId2" Type="http://schemas.openxmlformats.org/officeDocument/2006/relationships/hyperlink" Target="file:///p3%20All%20About%20Me%20-%20Mmaxfield%20-%20Very%20Good.ppt#CTE IT Introduction" TargetMode="External"/><Relationship Id="rId3" Type="http://schemas.openxmlformats.org/officeDocument/2006/relationships/hyperlink" Target="file:///All_About_Me_Slide_Show(2).pdf" TargetMode="External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ITCharts.pdf" TargetMode="External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chools.utah.gov/ate/tlc/Resources/resourcesbus.htm" TargetMode="External"/><Relationship Id="rId2" Type="http://schemas.openxmlformats.org/officeDocument/2006/relationships/hyperlink" Target="http://www.uen.org/curriculum/multimedia_resources.shtml" TargetMode="External"/><Relationship Id="rId3" Type="http://schemas.openxmlformats.org/officeDocument/2006/relationships/hyperlink" Target="http://www.uen.org/ate/" TargetMode="External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hyperlink" Target="http://cte-intro.wikispaces.com/08+Information+Technology" TargetMode="Externa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uen.org/Lessonplan/LPview.cgi?core=1207" TargetMode="External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wmf"/><Relationship Id="rId3" Type="http://schemas.openxmlformats.org/officeDocument/2006/relationships/slide" Target="slide43.xml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iki.org/wiki.cgi?WhatIsWiki" TargetMode="External"/><Relationship Id="rId2" Type="http://schemas.openxmlformats.org/officeDocument/2006/relationships/hyperlink" Target="https://www.wikispaces.com/" TargetMode="External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cte-intro.wikispaces.com/FACS+IT+Technology+Changes" TargetMode="External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uen.org/Lessonplan/preview.cgi?LPid=4277" TargetMode="External"/><Relationship Id="rId2" Type="http://schemas.openxmlformats.org/officeDocument/2006/relationships/hyperlink" Target="http://www.uen.org/Lessonplan/preview?LPid=7739" TargetMode="External"/><Relationship Id="rId3" Type="http://schemas.openxmlformats.org/officeDocument/2006/relationships/hyperlink" Target="http://www.ebay.com/" TargetMode="External"/><Relationship Id="rId4" Type="http://schemas.openxmlformats.org/officeDocument/2006/relationships/hyperlink" Target="http://amazon.com/" TargetMode="External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mynoahs.com/locations.php" TargetMode="External"/><Relationship Id="rId2" Type="http://schemas.openxmlformats.org/officeDocument/2006/relationships/hyperlink" Target="http://www.uen.org/Lessonplan/preview?LPid=394" TargetMode="External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ITCharts.pdf" TargetMode="External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cte-intro.wikispaces.com/08+Information+Technology" TargetMode="External"/><Relationship Id="rId2" Type="http://schemas.openxmlformats.org/officeDocument/2006/relationships/hyperlink" Target="http://cte-intro.wikispaces.com/FACS+IT+Technology+Changes" TargetMode="External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hyperlink" Target="http://www.schools.utah.gov/ate/tlc/Resources/resourcesfacs.htm" TargetMode="External"/><Relationship Id="rId6" Type="http://schemas.openxmlformats.org/officeDocument/2006/relationships/hyperlink" Target="http://www.uen.org/curriculum/multimedia_resources.shtml" TargetMode="External"/><Relationship Id="rId7" Type="http://schemas.openxmlformats.org/officeDocument/2006/relationships/hyperlink" Target="http://www.uen.org/ate/" TargetMode="External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uen.org/Lessonplan/LPview.cgi?core=1207" TargetMode="External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wmf"/><Relationship Id="rId3" Type="http://schemas.openxmlformats.org/officeDocument/2006/relationships/slide" Target="slide43.xml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.xml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iki.org/wiki.cgi?WhatIsWiki" TargetMode="External"/><Relationship Id="rId2" Type="http://schemas.openxmlformats.org/officeDocument/2006/relationships/hyperlink" Target="https://www.wikispaces.com/" TargetMode="External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SourceCode_Assignment.pdf" TargetMode="External"/><Relationship Id="rId2" Type="http://schemas.openxmlformats.org/officeDocument/2006/relationships/hyperlink" Target="http://www.uen.org/Lessonplan/preview?LPid=487" TargetMode="External"/><Relationship Id="rId3" Type="http://schemas.openxmlformats.org/officeDocument/2006/relationships/hyperlink" Target="file:///binary_t.pdf" TargetMode="External"/><Relationship Id="rId4" Type="http://schemas.openxmlformats.org/officeDocument/2006/relationships/hyperlink" Target="file:///Binary+Dots.pdf" TargetMode="External"/><Relationship Id="rId5" Type="http://schemas.openxmlformats.org/officeDocument/2006/relationships/hyperlink" Target="file:///ASCII%20Uncoded.ppt" TargetMode="External"/><Relationship Id="rId6" Type="http://schemas.openxmlformats.org/officeDocument/2006/relationships/hyperlink" Target="http://www.neurophys.wisc.edu/comp/docs/ascii.html" TargetMode="External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ProgrammingLanguages.pdf" TargetMode="External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Computer+Systems.ppt" TargetMode="External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Computer+Systems(2).ppt" TargetMode="External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uen.org/Lessonplan/preview?LPid=486" TargetMode="External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ITCharts.pdf" TargetMode="External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hyperlink" Target="http://cte-intro.wikispaces.com/08+Information+Technology" TargetMode="External"/><Relationship Id="rId4" Type="http://schemas.openxmlformats.org/officeDocument/2006/relationships/hyperlink" Target="http://www.schools.utah.gov/ate/tlc/Resources/resourcesteched.htm" TargetMode="External"/><Relationship Id="rId5" Type="http://schemas.openxmlformats.org/officeDocument/2006/relationships/hyperlink" Target="http://www.uen.org/curriculum/multimedia_resources.shtml" TargetMode="External"/><Relationship Id="rId6" Type="http://schemas.openxmlformats.org/officeDocument/2006/relationships/hyperlink" Target="http://www.uen.org/ate/" TargetMode="External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uen.org/Lessonplan/LPview.cgi?core=1207" TargetMode="External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wm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3.gif"/><Relationship Id="rId5" Type="http://schemas.openxmlformats.org/officeDocument/2006/relationships/slide" Target="slide1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3.gif"/><Relationship Id="rId5" Type="http://schemas.openxmlformats.org/officeDocument/2006/relationships/slide" Target="slide1.xml"/><Relationship Id="rId6" Type="http://schemas.openxmlformats.org/officeDocument/2006/relationships/slide" Target=""/><Relationship Id="rId7" Type="http://schemas.openxmlformats.org/officeDocument/2006/relationships/hyperlink" Target="file:///RoomAssignmentMatrix.doc" TargetMode="External"/><Relationship Id="rId8" Type="http://schemas.openxmlformats.org/officeDocument/2006/relationships/hyperlink" Target="file:///Agenda--one%20page.doc" TargetMode="External"/><Relationship Id="rId9" Type="http://schemas.openxmlformats.org/officeDocument/2006/relationships/hyperlink" Target="file:///Agenda%20Page%20Two.doc" TargetMode="External"/><Relationship Id="rId10" Type="http://schemas.openxmlformats.org/officeDocument/2006/relationships/hyperlink" Target="file:///CTE+Intro+Standards.doc" TargetMode="External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iki.org/wiki.cgi?WhatIsWiki" TargetMode="External"/><Relationship Id="rId2" Type="http://schemas.openxmlformats.org/officeDocument/2006/relationships/hyperlink" Target="https://www.wikispaces.com/" TargetMode="External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ikispaces.com/user/view/UMS_Bobcat" TargetMode="External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udacity.sourceforge.net/" TargetMode="External"/><Relationship Id="rId2" Type="http://schemas.openxmlformats.org/officeDocument/2006/relationships/hyperlink" Target="http://www.uen.org/Lessonplan/preview?LPid=484" TargetMode="External"/><Relationship Id="rId3" Type="http://schemas.openxmlformats.org/officeDocument/2006/relationships/hyperlink" Target="file:///CTE+Intro+IT+Vocabulary+-+Business+v2(2).doc" TargetMode="External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witchboard.com/" TargetMode="External"/><Relationship Id="rId2" Type="http://schemas.openxmlformats.org/officeDocument/2006/relationships/hyperlink" Target="http://maps.google.com/" TargetMode="External"/><Relationship Id="rId3" Type="http://schemas.openxmlformats.org/officeDocument/2006/relationships/hyperlink" Target="http://pioneer.uen.org/k12/index.jsp" TargetMode="External"/><Relationship Id="rId4" Type="http://schemas.openxmlformats.org/officeDocument/2006/relationships/hyperlink" Target="http://surweb.org/" TargetMode="External"/><Relationship Id="rId5" Type="http://schemas.openxmlformats.org/officeDocument/2006/relationships/hyperlink" Target="http://www.utahrealestate.com/" TargetMode="External"/><Relationship Id="rId6" Type="http://schemas.openxmlformats.org/officeDocument/2006/relationships/hyperlink" Target="http://earth.google.com/" TargetMode="External"/><Relationship Id="rId7" Type="http://schemas.openxmlformats.org/officeDocument/2006/relationships/hyperlink" Target="http://www.ebay.com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mail.com/" TargetMode="External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TE IT Introduc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 action="ppaction://hlinksldjump"/>
              </a:rPr>
              <a:t>Busi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2" action="ppaction://hlinksldjump"/>
              </a:rPr>
              <a:t>Family &amp; Consumer Sci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3" action="ppaction://hlinksldjump"/>
              </a:rPr>
              <a:t>Technology and Enginee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CTE Standards &amp; Objec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5"/>
          <a:stretch/>
        </p:blipFill>
        <p:spPr>
          <a:xfrm>
            <a:off x="3657600" y="380880"/>
            <a:ext cx="205740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ultimedi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stand the elements, planning and development of a multimedia present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u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ph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d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imations and interactivity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1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ll About M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 Power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Sample 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Sample Tw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About Me  Assig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Sample Pro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5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athway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ore related career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Pathway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8191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SOE Resour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920" y="4038480"/>
            <a:ext cx="85406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USOE Tech BUS Lesson Pl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Multimed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CTE Co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3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153280" y="6248520"/>
            <a:ext cx="476280" cy="36180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30492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TE WIKI Re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04920" y="1600200"/>
            <a:ext cx="8540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Wiki Tech Lesson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EN Resour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UEN Lesson Pl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53280" y="624852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3048120" y="1905120"/>
            <a:ext cx="5715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BUSINESS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Brainstor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657600" y="4038480"/>
            <a:ext cx="4952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works for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3043080" cy="426708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0592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FACS - CTE 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T Introduc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mmer Confer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rray High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ormation 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echnology (IT)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Days Devoted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 Instr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Objective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ore the relationship and impact of information technology on the family and consum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6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TE Wik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a WIK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Wiki.or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ki Hos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Wiki Spa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0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BUS - CTE 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T Introduc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29528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mmer Confer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rray High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371600" cy="13446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TE Wik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01680" y="1600200"/>
            <a:ext cx="85406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ine Help:  Join cte-int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 a User Name:  Your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: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MS_Bobca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 a Password:  </a:t>
            </a:r>
            <a:r>
              <a:rPr b="1" lang="en-US" sz="2400" spc="-1" strike="noStrike">
                <a:solidFill>
                  <a:srgbClr val="a3c145"/>
                </a:solidFill>
                <a:latin typeface="Tahoma"/>
              </a:rPr>
              <a:t>XXXXX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www.wikispaces.com/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80880" y="44956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Just Look A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cte-intro.wikispaces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ACS I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 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How technology has chang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T &amp; Socie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ognize the use of information technology systems in all facets of socie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ic  (MP3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Cooking &amp; Nutr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n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Automated Sewing &amp; Embroid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pping:  </a:t>
            </a:r>
            <a:r>
              <a:rPr b="0" lang="en-US" sz="28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E-Bay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Amaz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rapboo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3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T Us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ore information technology in home, school and wor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e cooling and heating from old thermostats to programmable thermostats to buildings like Noah’s that totally automated.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http://mynoahs.com/locations.php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UEN Smart Home &amp; Applia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7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athway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ore related career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Pathway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TE WIKI Resour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40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Wiki Tech Lesson Pl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How Technology has chang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603360" y="27432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SOE Re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28600" y="3886200"/>
            <a:ext cx="85406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USOE Tech FACS Lesson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Multim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CTE C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EN Resour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UEN Lesson Pl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229600" y="624852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7760" y="1905120"/>
            <a:ext cx="5715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FACS 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Brainstorm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3657600" y="4038120"/>
            <a:ext cx="49528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works for 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5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3043080" cy="426708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53280" y="624852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ECH - CTE 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T Introduc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mmer Confer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rray High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 rot="21456600">
            <a:off x="3809880" y="761760"/>
            <a:ext cx="1317600" cy="144756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ormation 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echnology (IT)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Days Devoted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 Instr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5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ormation 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echnology (IT)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Days Devoted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 Instr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4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Objective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ore the relationship and impact of information technology in today’s technology worl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9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TE Wik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a WIK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Wiki.or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ki Hos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Wiki Spa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3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TE Wik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01680" y="1600200"/>
            <a:ext cx="85406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ine Help:  Join cte-int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 a User Name:  Your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: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MS_Bobca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 a Password:  </a:t>
            </a:r>
            <a:r>
              <a:rPr b="1" lang="en-US" sz="2400" spc="-1" strike="noStrike">
                <a:solidFill>
                  <a:srgbClr val="a3c145"/>
                </a:solidFill>
                <a:latin typeface="Tahoma"/>
              </a:rPr>
              <a:t>XXXXX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www.wikispaces.com/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380880" y="44956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Just Look A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cte-intro.wikispaces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T Programm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stand and identify programming languages and their use in writing softwa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Source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UEN Programing Less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Binary Code_1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Binary DOTS Code_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ASC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ASCII Char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2" name="" descr="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T Softwa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ore how software is designed, developed and written as a computer program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OS) Operating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ndows, Macintosh, Linux, Uni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pplication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rd Processing, Database, Spreadsheet, Desktop Publishing, Multimedia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6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53280" y="624852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T Explo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ore how cars, airplanes, spacecraft, robots, heating &amp; air conditioning, etc. are controlled by softwa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Controlled by Softw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0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53280" y="624852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T Computer Par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y parts of a computer, typical peripheral devices and interactions of different systems in a computer (CPU, memory, storage, input, output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Computer Parts PowerP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4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T Numbering Syste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stand that all computers operate on a digital or binary number syste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Numbering System PowerP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T Eth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thics with copyright, privacy, piracy, viruses, phishing, ID theft etc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ain the issues of ethics, privacy, security and copyright law and how they apply to the use of information technolog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Ethics Lesson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athway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ore related career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Pathway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6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Objective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ore the relationship and impact of information technology in the business are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TE WIKI Resour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Wiki Tech Lesson Pl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"/>
          <p:cNvSpPr/>
          <p:nvPr/>
        </p:nvSpPr>
        <p:spPr>
          <a:xfrm>
            <a:off x="603360" y="27432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SOE Re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04920" y="3886200"/>
            <a:ext cx="85406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USOE Tech Lesson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Multim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CTE C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EN Resour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UEN Lesson Pl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6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53280" y="624852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3048120" y="1905120"/>
            <a:ext cx="5715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ECHNOLOGY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Brainstor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657600" y="4038480"/>
            <a:ext cx="4952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works for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3043080" cy="426708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77320" y="624852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Enjoy Your Summer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he End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80880" y="5715000"/>
            <a:ext cx="476280" cy="36180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990720" y="6172200"/>
            <a:ext cx="76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5" action="ppaction://hlinksldjump"/>
              </a:rPr>
              <a:t>St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990720" y="5791320"/>
            <a:ext cx="76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6" action="ppaction://hlinksldjump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4674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80880" y="5715000"/>
            <a:ext cx="476280" cy="36180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990720" y="6172200"/>
            <a:ext cx="76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5" action="ppaction://hlinksldjump"/>
              </a:rPr>
              <a:t>St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990720" y="5791320"/>
            <a:ext cx="76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6" action="ppaction://hlinksldjump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4674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Room Assig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8"/>
              </a:rPr>
              <a:t>CTE June 16 Agenda Page 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9"/>
              </a:rPr>
              <a:t>CTE June 16 Agenda Page Tw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0"/>
              </a:rPr>
              <a:t>CTE Standa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TE Wik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a WIK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Wiki.or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ki Hos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Wiki Spa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TE Wik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01680" y="1600200"/>
            <a:ext cx="85406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ine Help:  Join cte-int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 a User Name:  Your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: </a:t>
            </a:r>
            <a:r>
              <a:rPr b="0" lang="en-US" sz="24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UMS_Bobca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 a Password:  </a:t>
            </a:r>
            <a:r>
              <a:rPr b="1" lang="en-US" sz="2400" spc="-1" strike="noStrike">
                <a:solidFill>
                  <a:srgbClr val="a3c145"/>
                </a:solidFill>
                <a:latin typeface="Tahoma"/>
              </a:rPr>
              <a:t>XXXXX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www.wikispaces.com/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380880" y="44956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Just Look A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cte-intro.wikispaces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T Terminolo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e appropriate business information technology terminology including appropriate use policies, networks, database,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digital media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server, modem, wireless, protocol, bandwidth, blog, podcast, wiki, mp3, animation, etc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UEN Vocabul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CTE Intro Vocabul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nline Databas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ore online databases (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Switchboard.com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maps.google.com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Pioneer Online Library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Surweb.org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Real Estat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Google Earth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online stor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etc.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gital Medi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gital Cameras &amp; Cell Ph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e a cell phone pic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Send to E-Ma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wnload to Computer Dr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ert Into Slide Sh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7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5T04:56:57Z</dcterms:created>
  <dc:creator>Lee Jeppson</dc:creator>
  <dc:description/>
  <dc:language>en-US</dc:language>
  <cp:lastModifiedBy>Murray Schools</cp:lastModifiedBy>
  <dcterms:modified xsi:type="dcterms:W3CDTF">2007-06-15T18:10:50Z</dcterms:modified>
  <cp:revision>46</cp:revision>
  <dc:subject/>
  <dc:title>BUS - TLC Introduction</dc:title>
</cp:coreProperties>
</file>